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13.gif" ContentType="image/gif"/>
  <Override PartName="/ppt/media/image1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74E-5717-415D-A4B4-2B62BA0C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195-BF2E-4165-9BE2-A358C27E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7B0-9C75-4226-B71D-639B7891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197-4E2D-4AE3-8024-D15829EE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82B-9F2A-4D15-A1C5-32583D64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F47-9864-4911-85B0-A31A2B9C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CCD-E383-4E18-B10F-DEC4AC4E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E3C-FF66-4A61-A820-7305B3EC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EED-2CDD-40CE-BC7C-7D5CEE04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4CF-0C4D-48A3-9BD3-ADA33D44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721-3037-4B09-80B5-EED181C3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310-5196-44FC-A741-9AFF82B1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943600" y="4716360"/>
            <a:ext cx="3189240" cy="2141640"/>
            <a:chOff x="5943600" y="4716360"/>
            <a:chExt cx="3189240" cy="2141640"/>
          </a:xfrm>
        </p:grpSpPr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7848720" y="4716360"/>
              <a:ext cx="12571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5943600" y="5292720"/>
              <a:ext cx="3189240" cy="15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" name=""/>
          <p:cNvGrpSpPr/>
          <p:nvPr/>
        </p:nvGrpSpPr>
        <p:grpSpPr>
          <a:xfrm>
            <a:off x="0" y="0"/>
            <a:ext cx="2892600" cy="1935000"/>
            <a:chOff x="0" y="0"/>
            <a:chExt cx="2892600" cy="1935000"/>
          </a:xfrm>
        </p:grpSpPr>
        <p:pic>
          <p:nvPicPr>
            <p:cNvPr id="6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89260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7"/>
            <a:stretch/>
          </p:blipFill>
          <p:spPr>
            <a:xfrm>
              <a:off x="0" y="1066680"/>
              <a:ext cx="1211400" cy="8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C894-EB65-4354-95DF-3E70CACAC7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37680" y="4530600"/>
            <a:ext cx="36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华文行楷"/>
                <a:ea typeface="华文行楷"/>
              </a:rPr>
              <a:t>---</a:t>
            </a:r>
            <a:r>
              <a:rPr b="1" lang="zh-CN" sz="6000" spc="-1" strike="noStrike">
                <a:solidFill>
                  <a:srgbClr val="6666ff"/>
                </a:solidFill>
                <a:latin typeface="华文行楷"/>
                <a:ea typeface="华文行楷"/>
              </a:rPr>
              <a:t>高一</a:t>
            </a:r>
            <a:r>
              <a:rPr b="1" lang="zh-CN" sz="6000" spc="-1" strike="noStrike">
                <a:solidFill>
                  <a:srgbClr val="6666ff"/>
                </a:solidFill>
                <a:latin typeface="华文行楷"/>
                <a:ea typeface="华文行楷"/>
              </a:rPr>
              <a:t>(8)</a:t>
            </a:r>
            <a:r>
              <a:rPr b="1" lang="zh-CN" sz="6000" spc="-1" strike="noStrike">
                <a:solidFill>
                  <a:srgbClr val="6666ff"/>
                </a:solidFill>
                <a:latin typeface="华文行楷"/>
                <a:ea typeface="华文行楷"/>
              </a:rPr>
              <a:t>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1295280"/>
            <a:ext cx="7696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隶书"/>
              </a:rPr>
              <a:t>争创星级荣誉班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433520"/>
            <a:ext cx="891540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免监考生是学校培养我们自觉，诚实的一种方式。而班级的的同学也都在为之努力。班中己有十几人上交了申请书，是全年级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最多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的一个班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在这一学期中，通过同学的共同努力，我们也获得了不错的成绩：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东方绿舟社会实践优秀集体、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八中学军实践优胜集体、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2006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东方绿舟“军事定向”活动优胜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班一个团结的集体，并会争取在下一学期里在上一个台阶</a:t>
            </a:r>
            <a:r>
              <a:rPr b="1" lang="zh-CN" sz="2400" spc="-1" strike="noStrike">
                <a:solidFill>
                  <a:srgbClr val="ccccff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971800" y="225360"/>
            <a:ext cx="441972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隶书"/>
              </a:rPr>
              <a:t>争创免监考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43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447920" y="2057400"/>
            <a:ext cx="6324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谢谢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~</a:t>
            </a: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观看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新魏"/>
              </a:rPr>
              <a:t>~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246240"/>
            <a:ext cx="6705360" cy="475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6705360" cy="477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33720" y="228600"/>
            <a:ext cx="6705360" cy="477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133720" y="228600"/>
            <a:ext cx="6705360" cy="477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133720" y="228600"/>
            <a:ext cx="6705360" cy="477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6320" y="480060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2920" y="158724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0eb1a"/>
                </a:solidFill>
                <a:latin typeface="Times New Roman"/>
                <a:ea typeface="华文隶书"/>
              </a:rPr>
              <a:t>军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5280" y="51498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0eb1a"/>
                </a:solidFill>
                <a:latin typeface="Times New Roman"/>
                <a:ea typeface="华文隶书"/>
              </a:rPr>
              <a:t>集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076400"/>
            <a:ext cx="6477120" cy="494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1076400"/>
            <a:ext cx="6477120" cy="494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48320" y="-74196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0eb1a"/>
                </a:solidFill>
                <a:latin typeface="Times New Roman"/>
                <a:ea typeface="华文隶书"/>
              </a:rPr>
              <a:t>班级卫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6095880" cy="5105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90920" y="380880"/>
            <a:ext cx="6095880" cy="5105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590920" y="380880"/>
            <a:ext cx="609588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7840" y="73764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0eb1a"/>
                </a:solidFill>
                <a:latin typeface="Times New Roman"/>
                <a:ea typeface="华文隶书"/>
              </a:rPr>
              <a:t>班级风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6858000" cy="4857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33720" y="152280"/>
            <a:ext cx="6858000" cy="485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133720" y="152280"/>
            <a:ext cx="6858000" cy="4857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33720" y="152280"/>
            <a:ext cx="6858000" cy="4857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133720" y="152280"/>
            <a:ext cx="6858000" cy="4857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133720" y="152280"/>
            <a:ext cx="6858000" cy="4857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32760" y="50292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0eb1a"/>
                </a:solidFill>
                <a:latin typeface="Times New Roman"/>
                <a:ea typeface="华文隶书"/>
              </a:rPr>
              <a:t>主题班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5400" y="1986480"/>
            <a:ext cx="16434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0eb1a"/>
                </a:solidFill>
                <a:latin typeface="华文隶书"/>
                <a:ea typeface="华文隶书"/>
              </a:rPr>
              <a:t>多彩的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33720" y="469800"/>
            <a:ext cx="6581520" cy="5778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33720" y="469800"/>
            <a:ext cx="6629400" cy="5778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9240" y="180360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0eb1a"/>
                </a:solidFill>
                <a:latin typeface="Times New Roman"/>
                <a:ea typeface="华文隶书"/>
              </a:rPr>
              <a:t>英语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6705720" cy="4876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09680" y="228600"/>
            <a:ext cx="6705720" cy="4876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9240" y="67716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0eb1a"/>
                </a:solidFill>
                <a:latin typeface="Times New Roman"/>
                <a:ea typeface="华文隶书"/>
              </a:rPr>
              <a:t>敬老院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29320" y="51498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0eb1a"/>
                </a:solidFill>
                <a:latin typeface="Times New Roman"/>
                <a:ea typeface="华文隶书"/>
              </a:rPr>
              <a:t>留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271760" y="3636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0eb1a"/>
                </a:solidFill>
                <a:latin typeface="Times New Roman"/>
                <a:ea typeface="隶书"/>
              </a:rPr>
              <a:t>特长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87280" y="2514600"/>
            <a:ext cx="71946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金蒙赐</a:t>
            </a: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----</a:t>
            </a: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团支部书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乔颖</a:t>
            </a: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---</a:t>
            </a: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年级宣传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射箭队的蔡志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手球队的徐雅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0eb1a"/>
                </a:solidFill>
                <a:latin typeface="Times New Roman"/>
              </a:rPr>
              <a:t>射击队的江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eb1a"/>
                </a:solidFill>
                <a:latin typeface="Times New Roman"/>
              </a:rPr>
              <a:t>        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0eb1a"/>
                </a:solidFill>
                <a:latin typeface="Times New Roman"/>
              </a:rPr>
              <a:t>我们班级可谓是人才辈出～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6324840" cy="5059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6324840" cy="505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80880" y="1224000"/>
            <a:ext cx="6324840" cy="5024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80880" y="1219320"/>
            <a:ext cx="6324840" cy="5059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14960" y="-66276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0eb1a"/>
                </a:solidFill>
                <a:latin typeface="Times New Roman"/>
                <a:ea typeface="华文隶书"/>
              </a:rPr>
              <a:t>班级荣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02:55:2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21:00Z</dcterms:modified>
  <cp:revision>29</cp:revision>
  <dc:subject>主题班会课件(分28大类): http://shop62905894.taobao.com</dc:subject>
  <dc:title>主题班会课件(分28大类): http://shop62905894.taobao.com</dc:title>
</cp:coreProperties>
</file>